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EB0-8CD9-4F84-A7BE-30EBF186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4CD-C23E-468C-8317-8F5C866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880-FBE4-4293-95F8-8D59DC56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DC1-A8E8-43A2-9CBC-40427665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DB1-5CDD-4787-A682-0885612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B7D-065C-4A89-9F2E-08C1CAE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AC5-0376-4578-9762-FE4BC29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C76-165C-4401-895E-711CC55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4A0-D8CE-44B8-B3DC-CAC04FC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F8C-078D-48EA-BDD0-7B4B83B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F01-041D-411D-9CA5-4B44483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626-889B-4FFC-87F8-D683398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r@mrreddy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608E-A094-4F0C-B2A3-246930952F4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 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62280" y="1412640"/>
            <a:ext cx="92422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This test contains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10 question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 covering this term’s topics.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Each question will appear for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8sec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The questions will be looped 3 times so if you miss a question the 1st time, you still have 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2 more chances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40760"/>
            <a:ext cx="878544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9.)  Expand the brackets: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(y + 4)(y + 6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10.)  Solve this equation: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8m – 16 = 40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½(a + b) × 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b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= 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5y –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19280" indent="-71928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se × Altitu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 or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(3y – 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10y+2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05040" indent="-892440">
              <a:spcBef>
                <a:spcPts val="901"/>
              </a:spcBef>
              <a:buClr>
                <a:srgbClr val="ffffff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 = 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1.)  Write down the formula for the area of a trapezium. You could explain it if you prefer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2.)  Write in words or algebraically, the formula for the area of a circle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337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3.) Look at this triangle. What is Pythagoras’ Theor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00280"/>
            <a:ext cx="2089080" cy="251964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2160" y="4365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94520" y="6095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1440" y="407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4.)  Expand the brackets: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5(7y – 4)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5.)  Look at this triangle. What is the size of angle m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005360"/>
            <a:ext cx="4537080" cy="1657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566100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7440" y="48690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720" y="414972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5440" y="508464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6.)  Write down the formula for the area of a parallelogram.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437000"/>
            <a:ext cx="5761080" cy="1152720"/>
          </a:xfrm>
          <a:prstGeom prst="parallelogram">
            <a:avLst>
              <a:gd name="adj" fmla="val 124945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39320"/>
            <a:ext cx="86421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.)  Write in words or algebraically, the formula for the circumference of a circle. [Hint: there are 2 possible answers]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8.)  Factorise the expresison: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12y – 8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46:17Z</dcterms:created>
  <dc:creator>Bruno Reddy</dc:creator>
  <dc:description/>
  <dc:language>en-US</dc:language>
  <cp:lastModifiedBy>A User</cp:lastModifiedBy>
  <dcterms:modified xsi:type="dcterms:W3CDTF">2005-12-14T12:20:54Z</dcterms:modified>
  <cp:revision>8</cp:revision>
  <dc:subject/>
  <dc:title>1.)  2 x n</dc:title>
</cp:coreProperties>
</file>